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6036-2E37-48EB-82BB-81D96BC80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A6821-19D5-492B-8EEF-53422275C8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45501-0319-43B8-A46C-DA43BA582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09874-BA9E-4F67-A6E0-3F067B6AB2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7001A-EB18-46C4-87D3-9A9AE871D5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7C559-1F5B-4F5D-A15F-17049F7D6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D08A-5A33-48EB-A45B-B456340BC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1134-6542-4210-95D8-A8F6CBCBF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CBE85-3BAB-4023-A443-BDCFB5EF5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53E50-0952-4AAB-ABD7-07840137A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F584-1C6F-483A-92FA-B07C8DFAC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3834-80F2-49DA-84ED-24141840CD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855D-81BE-41C1-973D-4A9F7A336C37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let this happen to you – Client Migration Tips</a:t>
            </a: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 System Administrator, 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.  Be Prepared and Have a Plan!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Setting Up the Environment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 z/OS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User, Client-server, All DB2 for M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Connect as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67280" y="990720"/>
            <a:ext cx="275112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22177-3D88-4172-9EE2-900414FDD3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z/OS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:  z/OS 1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upgraded to 64 bit proces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100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upgrade to z/0S 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ware:  DB2 Connect Version 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oolkit Version 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DC70F-E555-41DD-A08C-91B1C0CCE1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2743200"/>
            <a:ext cx="1981440" cy="914400"/>
            <a:chOff x="380880" y="2743200"/>
            <a:chExt cx="1981440" cy="914400"/>
          </a:xfrm>
        </p:grpSpPr>
        <p:sp>
          <p:nvSpPr>
            <p:cNvPr id="172" name=""/>
            <p:cNvSpPr/>
            <p:nvPr/>
          </p:nvSpPr>
          <p:spPr>
            <a:xfrm>
              <a:off x="380880" y="2743200"/>
              <a:ext cx="1981440" cy="914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289584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Interchange Cli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860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3429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200400"/>
            <a:ext cx="1676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 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838080"/>
            <a:ext cx="281952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1219320"/>
            <a:ext cx="21337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981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SO Attach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981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39625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unTime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VS or 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61936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ddleware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29718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562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556272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st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289548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C7185-72F8-459C-8DC3-818E6052EC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iddleware:  DB2Connect Version 7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6629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 for multi-user environment working with DataInterchange Client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 “up”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utilization is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202392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4CAEE-36FE-49D2-B746-BA11976629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ACF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invokes RACF to determine access to 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NT user privileges to the DB2/MVS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SELECT, INSERT, UPDATE and DELETE privileges on subset of tables in our test environment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for RunTime and CustTime databas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DataInterchang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ly had multiple RACF profiles defined by project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idation of profiles to user’s a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C6BB5-A802-4D91-AFC7-24DE14D4DF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Toolkit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45259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3.1 - requires XML Toolkit version 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upward compatibility with later versions of the toolk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already upgraded to version 1.2 of the XML Toolkit. Therefore not able to use the XML Toolkit at this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762360" cy="35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A262F-0654-4555-A373-49593665D2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3.  Be Adaptabl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Host to DI Client Migr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50292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differences between host and client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tables EDIPSDI and EDITPCM reside in both RunTime and CustTime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to note that once converted to the Client, a transaction must be maintained on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convention changes for DataInterchange Client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independent browser-based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DI Client 3.1 installed on PC or lap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673360" cy="375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B2647-0189-48AF-A6E8-50053AE28C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UNTIME vs. CUSTTIME databas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6050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e create the  CUSTTIME client format database in a separate database from the RUNTIME database on the h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rned with migration to DI 4.1 and single databas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ually, only logical groups of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pt in one database but used separate high level qualif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72200" y="2971800"/>
            <a:ext cx="2571840" cy="26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21072-1CB2-4DF5-8091-91C50A9E13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B2 Connect Lo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Client login requires two entries of TSO id and password due to the two databases being connec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TIME as MVS hos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TIME as client forma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 the temptation to hard-code the TSO id and password into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AE90-DF92-481B-A05E-F983320D80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4.  Assess The Risk and Be Proactiv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Client Deployment)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52880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 login using DI Client 3.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s the “cac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sswords updated or changed on the mainframe are properly reflected within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two complete DataInterchange Client 3.1 subsystems within our lab environments for testing of PTF’s and regular RSU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409840" cy="25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76F23-1BEA-44CC-A70B-ACE5FB3C8B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 U.S. Life Insurer  -  $2.4 trillion life insurance in-for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of 12/31/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non-medical provider of institutional employee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enefits to 37 million employees and family members through their plan sponsors and 88 of Fortune 100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ed #1 in most group product areas - life, dental, auto and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, and long-term care; and the #1 commercial dental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-   approximately 12 million individuals in the U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 - 8 million customers in 1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5A69-0408-44DE-A8E2-C40FC29923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sion Issu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end-user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 3.1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convert existing Maps, as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converted, must be updated and maintained in DI Cl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6D9DB-C5A4-4FAF-8B38-F622E7858D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5.  Enjoy The Ride 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Future Direc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54403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Server Pack 1.4 include WebSphere Data Interchange V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ouse and being installed in one of the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Transformation using WDI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310068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4CB9-535C-4AE0-8261-F10A13A55B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 the risk and be pro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D610-3AB8-4FD6-BD19-2B154835EF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- DI Client 3.1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D382D-650E-41A4-83CB-3B7D78E30F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.S. Insurance and Financial Services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dividu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planning, life insurance, annuities, long-term care, disability, mutual funds and secu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itution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retirement and savings, group non-medical health (e.g., short- and long-term disability, long-term care, dental) and voluntary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Opera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accident and health, annuities, retirement and savings, automobile and homeowner’s insur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 Managemen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tual funds, separate accounts and real estat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 &amp; Hom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obile, homeowner’s, boat, excess liability and miscellaneous personal lines property and casualty 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nsuran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reinsurance, facultative and automatic, as well as financial re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0A020-57BB-40E2-81B5-2030F65CD7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 - Client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B8113-7F08-4829-A367-367A231608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1460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89fb"/>
                </a:solidFill>
                <a:latin typeface="Arial"/>
              </a:rPr>
              <a:t>Survival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02320" y="286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274320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523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295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21337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489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3260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4343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114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the Risk and Be Proac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51814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53341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E5B6-B09E-4376-9C46-0D035926E8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1.  Know Your Environmen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Client Migration Overview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use the Cl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sta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to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D603F-66D9-4AC8-A3A6-7E25625B69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y Use The Client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AA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computing power of the main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have multiple systems up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MetLife for the move to Web Sphere Data Interchange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29564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857C8-F489-43DB-97E7-0807FD13E4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Start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61261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MVS System 2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DB2 Subsystems 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2.1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ed of several levels of maintenance and PTF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4016160" cy="39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9FF9C-9B61-484D-9385-F07F296B07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Are Toda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/OS MVS System - 01.02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DB2 Sub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3.1 - on Host and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on all maintenance and PTF’s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62520" y="685800"/>
            <a:ext cx="4219560" cy="395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E92D2-DF16-4906-9D80-9DD59C49D7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13:49:33Z</dcterms:created>
  <dc:creator>MetLife</dc:creator>
  <dc:description/>
  <dc:language>en-US</dc:language>
  <cp:lastModifiedBy>IBM_USER</cp:lastModifiedBy>
  <cp:lastPrinted>2003-08-19T18:25:27Z</cp:lastPrinted>
  <dcterms:modified xsi:type="dcterms:W3CDTF">2003-09-17T17:35:07Z</dcterms:modified>
  <cp:revision>54</cp:revision>
  <dc:subject/>
  <dc:title>WebSphere Data Interchange  Soaring Into the Future</dc:title>
</cp:coreProperties>
</file>